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775-4469-4D68-B0E5-10433806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B131-B30E-4762-8FA3-D87669DBE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B07E-0B69-4516-9D95-DC185D33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BE7-3B29-4785-96CE-06CC5C16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6D3-DBBE-4850-B3F4-778C17335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31F-C7F8-4978-8940-49A6DF81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B07B-8B4F-4EF0-8EB8-B0895108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9246-C274-4978-A1BA-58986723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5E1-4539-4801-8BD0-9E175700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4784-78A5-4DF7-AFA0-FBEC3489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AF9-07F4-45A0-A6A3-6C052454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395-6D9A-4D8D-889C-CF27389D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AF27-7B8C-492A-8353-8A4CD2B4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322-555F-4AE7-859F-F0CD4E1D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84C4-7DFB-4013-8E14-650EC1A8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4E5-773C-49A8-AA58-F4F352B5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4F6A-4E6B-4B76-817D-6AD87ED24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07D-1DFF-4B5E-895C-53BF2F5FA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1329-AEFC-4599-B4B0-E627C20C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2FA3-86D8-4B35-BCAC-3503C8AE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848F-35D8-40AF-BB5B-A84AB21E4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BA9F-EB97-4E35-BC6F-D06B2879B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21BC-E31E-4A6E-B152-E09ED1E2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D10-B3B2-413F-80F2-E1E608C5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25CE-040B-43A0-98B6-B3652A62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4504A-E834-43EA-AA13-4D97222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77A2E-87D5-4ED2-BFC9-613CC73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FD0C9-9F03-465A-9F15-482B7A03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6C2D5-57B9-4E2C-A086-3A142B1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79C4E-0CD7-46B3-98C5-A997E50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EFACD-F15E-4BAB-9A8F-6F094C9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36D8D-44AC-4312-A4CB-A9021388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31EB0-D5FA-4890-B268-09845EFC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3D8D6-C31D-46C0-9C6D-BEEF5A74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5EE-03D7-4989-9748-62DEB131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378-5B49-4B61-B582-A0E3FFC5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B19-6431-4B80-8407-E5BA6F81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E9D-2017-4F23-B167-0D849FC4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F79-8B81-4E32-89E2-A312FDA7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B04-C3FC-46DD-B2B9-9E84AFC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824-F3B2-4423-AC11-4446750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1B4-AF7B-4EDF-A6FE-839F5A0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417-214A-4D33-9C97-C8B26636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979-4AD4-42F3-A712-5915CE8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F43-6445-42CF-9FDA-49AED03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A3B-6B16-415C-94BA-C6149DC9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7012D-CEC1-4A79-8057-A6DAA04B51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2801-EE26-469B-8270-7CEBA8CAC5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4B536-0F9A-473F-B845-0BA05FB96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41DB0-1FDD-46E3-8BA8-2522221762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55BF4-BAD7-4928-BED0-75FA7023AB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E5A38-4FD2-490A-8ADA-00ED760ACF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00DA6-426D-4425-8B89-72EC2FF7E1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74720-4EE2-4471-A9EA-FD115F9611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5A489-586A-4105-8E30-2A987EA427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56EA6-9815-4ED2-8B66-E7DC797AB6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25521-99B5-41C9-8D09-7A60F2B979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6F722-6020-4EF0-871D-C3B8D57E26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9F4DC-9D59-4E59-BFF6-5C06D6966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AA2C-4FBA-4C09-BA71-A48CEB0ED3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7CD6-7698-46FF-A987-45F59C5C71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4606F-72BE-4AF2-A576-548770FCC2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28396-7777-473E-B211-E6980307EF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11DD5-6B52-4A9D-A2C8-93107BCC87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6C39E-DBEB-488B-B862-89B4D91139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02F2-8A5B-4FB1-8325-3989818407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40B56-4A1D-48B5-B562-5D48DD75FF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0E4AC-1C25-4AAC-A9FC-7788BE43EEF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0B1FF-C978-484D-A00E-155A57B83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C7B5-C9CB-40C7-9AB4-314AF15C63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B7A9-97A8-4220-93EF-ADC79F6A26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0EF-5DFD-48C9-8E19-6A424764B4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EBE8-3440-4F40-B74F-B8A04E8604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584-E62B-48FD-9C05-47FCB9524E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E8BB-C8AF-48BC-BD03-E2131D1F06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FC61-5457-4F1C-92AF-BF80982C802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1FB7-77F3-488B-B446-4FCC46FEEA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AEE-D136-489D-A1C9-FC1E9CDA3A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2398-A73B-4538-8506-0B07423BA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EFFF-0708-4BD7-8DE7-A46BA23163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D6AF-EBE8-420D-9C20-95E8539249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14C8-95BE-42CE-BA5D-7CD61C93F1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A3085-BB94-4E88-BA1B-237D696633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4ECB4-E3B0-46EB-A84E-5635C8B814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51CA0-FD17-4BA5-8200-59964B1F61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79EB9-8790-40EF-BD57-6B3ADE13B0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7804B-B2C3-4917-80C1-00D616925A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48A88-22FE-4D33-91CA-92A98A311B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71921-1254-4A9B-A728-7B0B0929C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769A4-0D63-421C-AC28-B4D0BD8088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102C0-CF86-477F-8F33-BFF1865E1C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9D023-B516-4899-9A6E-0DA788AD75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A195B-BF4F-48B7-BE15-505809E07C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D355C-7EDE-4A02-933A-5331E34BC21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BEA27-909C-470F-B14E-DDB8ABCB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2C050-DD68-4D53-8C80-EF5B173A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D92A9-F755-4E18-B8DE-0D4C3594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7EB82-BECC-49E5-ABE7-AD1ABD7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E4D47-B251-491A-81C9-4BF49BCF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4408E-73E2-4BE1-8837-7935B68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64A44-495B-4E2D-860B-EAA5BBF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3B73C-8C7D-4414-AA2D-BAF2CF9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2C27D-4DDA-4916-AFAB-FECDC3C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1DF99-1AA9-43D9-A523-450399DF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8604A-3EFB-4BC3-98C4-2E516D03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4C5DA-1BBF-4B38-9883-449BCAA4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FFCBB-839E-4FA4-9D85-DD114505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97E34-D54A-47C2-AAC8-E32B1F4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10667-3A3B-467B-B267-A7149F6C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4C02A53B-2436-4C7C-AC86-525ED34B8547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6575087C-22EA-49CF-98BF-490680709CCF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E86E-27ED-403A-99B0-BAC50852985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49F93B33-2EE9-45CE-B172-49AB34A063AA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5B01C291-C5AC-49F9-B4A2-11AEAC0BA1A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C916A08-1921-40CD-9C03-98C9C1D05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8A7AE602-45C3-4959-B536-7C8E92BD770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2E451DE-24B2-4BF7-B986-69CB1E388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C2B70B0B-4287-4D13-821E-EB0B459F14F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087BBBBB-F68E-4AB4-B77E-8A4357C1D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E26D538C-926B-476D-91B1-C10DC3D258C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UC 6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95843C60-9A74-4AD5-A8ED-774A05BE4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36C24C5B-F83F-4DF3-90A3-3DA26CB7A3A5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1026" descr="CompanionWebSite Back"/>
          <p:cNvPicPr/>
          <p:nvPr/>
        </p:nvPicPr>
        <p:blipFill>
          <a:blip r:embed="rId4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963-C5B6-4437-9B01-97E2A01975A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EC5558BF-33AB-4EC3-93BC-F1A2A3F2B32B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5F4C-1545-4E32-B1B8-C5B8845C5D1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evalutech.sreb.org/" TargetMode="External"/><Relationship Id="rId3" Type="http://schemas.openxmlformats.org/officeDocument/2006/relationships/hyperlink" Target="http://www.clrn.org/home" TargetMode="External"/><Relationship Id="rId4" Type="http://schemas.openxmlformats.org/officeDocument/2006/relationships/hyperlink" Target="http://www.superkids.com/" TargetMode="External"/><Relationship Id="rId5" Type="http://schemas.openxmlformats.org/officeDocument/2006/relationships/hyperlink" Target="http://www.educationworld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7" descr=""/>
          <p:cNvPicPr/>
          <p:nvPr/>
        </p:nvPicPr>
        <p:blipFill>
          <a:blip r:embed="rId1"/>
          <a:stretch/>
        </p:blipFill>
        <p:spPr>
          <a:xfrm>
            <a:off x="219240" y="396720"/>
            <a:ext cx="8937360" cy="28101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ching with Instructional Softw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mediate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ving teacher ti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rceived misu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icism by constructivis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pplement or replace worksheets and homework exerci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epare for te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t time lim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sign individual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learning st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near tuto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anching tuto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tensive inter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orough user contr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ropriate pedag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dequate answer-judging and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ropriate graphic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dequate record keep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mediate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ime savin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lf-contained &amp; self-paced unit of in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icism by constructiv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ck of good produ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flect only one instructional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lf-paced review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lternative learning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 when teachers are unavail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sign individual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learning stations or individual checko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terati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cedur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ituation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ystem fidelity and accur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od accompanying documentation to explain system characteristics and u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mpress ti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low down process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et students involv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ke experimentation saf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ke impossible possib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ve money and resourc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petition with varia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bservation of complex process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ccuracy of mode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suse of simula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placement or supplement to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b experimen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ole-playing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eld trip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roducing or clarifying a new top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ostering exploration &amp; process lear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couraging cooperation and group 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9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n be equally effective with whole class, small groups, or indiv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articularly good to instigate discussion and collaborative 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ually considered more appropriate for pairs and small grou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4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ments of competition and challen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musing or entertaining for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ealing formats and activ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al val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asonable physical dexterity require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cial, societal, and cultural conside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nimal violence/aggress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813520" cy="1658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age 74"/>
          <p:cNvPicPr/>
          <p:nvPr/>
        </p:nvPicPr>
        <p:blipFill>
          <a:blip r:embed="rId2"/>
          <a:srcRect l="0" t="-14725" r="0" b="-14725"/>
          <a:stretch/>
        </p:blipFill>
        <p:spPr>
          <a:xfrm>
            <a:off x="457200" y="18288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s 1-2: TPACK &amp; relative advant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3: Objectives and Assess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4: 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5: Instructional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6: Evaluate and Revi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High inter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ten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eals to students’ desire to complete and pla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earning versus having fu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fusion of game rules and real-life ru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efficient lear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 place of worksheets and exerci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 teach cooperative group working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 a rewa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appropriate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volve all stud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mphasize the content-area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ent-area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ent-free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llenging and interesting for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ear links to developing specific problem-solving skills or abil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llenging activities increase interest and moti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events inert knowledge by illustration situations in which skills app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ames versus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ftware claims versus effectiven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ossible negative effects of directed in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ransf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4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ch component skills in problem- solving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support in solving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courage group problem solv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rected teac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early define skills and the teaching strateg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structivist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courage explo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structu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Vary amount of direction and assistan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mote reflec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ress process over correct answ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RACTERISTIC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I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tworked or online system of in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complete curricula on a top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nitor and provide reports on student progr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mmarize data by student, class, sch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od curriculum cover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od pedagogical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veral different report for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asily read and interpreted repor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supplemental educational services required by NCLB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 of drill, tutorials, simulations, instructional games, and problem solving—depending on selec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asier to access via network or onlin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rsonalized instruc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mmary progress dat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search on imp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cerns about the role of I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ear probl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osed or open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tch scope and sequ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tch to target popul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dequacy of reporting and management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st of hardware and software resour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ject educational 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btain ILS updates from vend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valuate ILS for match with expect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culate personnel and fiscal imp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rected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mediation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instream delivery syste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structivist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source-rich environme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REB EvaluTech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2"/>
              </a:rPr>
              <a:t>www.evalutech.sreb.or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ifornia Learning Resource Network 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3"/>
              </a:rPr>
              <a:t>www.clrn.org/ho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perKids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4"/>
              </a:rPr>
              <a:t>www.superkids.c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ducation World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5"/>
              </a:rPr>
              <a:t>www.educationworld.c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grams designed specifically to deliver or support one or more kinds of learning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6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rill-and-Practic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kill 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utorial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formation deliver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imulatio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emonst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pl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al Gam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kill 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pl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blem Solving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kill 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pl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056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day’s software can be difficult to classif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veral different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verlap of functions in one pack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ample: Language learning software might incorporat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rill activities (directed strategy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blem solving &amp; gaming (constructivist strategy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6916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rst instructional software reflected behavioral and cognitive learning theo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me functions (e.g., drill &amp; practice, tutorial) remain focused o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rected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ter software designed to support a constructivist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me functions (e.g., simulation, games) can be used in either directed or constructivist w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ducational Programming Langua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al softw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ol softwar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d to introduce young children to problem solving through programm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nline access and compon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eb 2.0 technolog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ich user experie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newed emphasis on directed strategies and networked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ed learning systems (IL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lash card 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anching dri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tensive feedback activ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4796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rol over presentation r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nswer judg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ropriate feedback for correct &amp; incorrect answ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6:21:22Z</dcterms:created>
  <dc:creator>Terence W. Cavanaugh</dc:creator>
  <dc:description/>
  <dc:language>en-US</dc:language>
  <cp:lastModifiedBy>cregan</cp:lastModifiedBy>
  <dcterms:modified xsi:type="dcterms:W3CDTF">2010-03-31T15:19:28Z</dcterms:modified>
  <cp:revision>120</cp:revision>
  <dc:subject>Integrating Instructional Software into Teaching and Learning</dc:subject>
  <dc:title>Chapter 3</dc:title>
</cp:coreProperties>
</file>